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05F1-8757-49B7-B96A-BD606B455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160E-0C33-46CA-8200-B1AD36C0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3AD9-6641-48BB-BC74-1946322EB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C908-C670-4BAA-A03A-10D195CCD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E971-4EF6-4620-BF04-475AF5BE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7866-0470-4600-B418-D8F35970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AAB0-C9FF-45A8-BEFB-EA0BC383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342A-C226-49A6-A266-A9E7CDB1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A858-78C4-47F7-B2F1-F6F265D0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DDD0-EDEF-4517-B021-5C0C6434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79B1-759A-4A8B-A5A5-EFC212E8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2CA9-98C9-475C-BBF1-D1000A3C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A2D2-9E48-40AE-B2D0-78B06D75D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PARIŢIA ŞI RĂSPÂNDIREA CREŞTINISMULU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rimisul lui Dumnezeu, fiul său, Isus, se naşte la Bethleem şi trăieşte la Nazareth. Viaţa sa este povestită în cele patru Evanghelii cunoscute şi sub numele de Noul Testament – scrierea sfântă a creştinilor. La 30 de ani, Isus începe să predice cuvântul lui Dumnezeu în Galileea, o provincie a Palestin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ntru a arăta natura sa divină, Isus săvârşeşte miracole. Dintre discipolii săi, doisprezece sunt aleşi pentru a duce mai departe în întreaga lume noua învăţătură. Ei sunt numiţi apostoli, iar cel mai important este Petr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sus predică pentru cei slabi, săraci sau persecutaţi, promiţându-le împărăţia cerurilor, a lui Dumnezeu cel unic şi atotputernic. Noua credinţă se răspândeşte repe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vreii aşteptau un alt fel de Mesia, venind să-i elibereze de sub stăpânirea romană. De aceea nu îl recunos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siderându-l impostor, preoţii îl predau romanilor. Aceştia îl judecă şi îl condamnă la moarte prin crucific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5181480" y="1447920"/>
            <a:ext cx="3619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edactaţi pe scurt semnificaţia următorilor termen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rcen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rdonaţi cronologic următoarele evenimen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ivizarea Imperiului ro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tragerea administraţiei şi armatei romane din Da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nirea hunilor în Euro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urmări au av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ătrunderea ostrogoţilor în It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omnia împăratului Justin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omnia împăratului Diocleţi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</cp:lastModifiedBy>
  <dcterms:modified xsi:type="dcterms:W3CDTF">2012-06-18T13:53:51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